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47E29-3DCA-4CBE-9930-1A9BAD6C3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7DFC2-3441-47C9-8FF3-55E2E10E0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BEFD7-44E5-496E-BE4D-799C28EB3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D818C-00E3-4C43-8C73-6054C38531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C9B42-236D-43BF-8629-4761DD269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94226-FDE1-418D-8E89-12FA9B903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00CBD-C816-4F8B-884E-8ED2AB976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BD101-7BF0-45B9-BD6A-A933B75ED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A977A-3029-41AE-B06F-1714463C3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7F3B0-2EFA-4EC5-A1B4-9334AADCC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CE760-8E4C-4ED9-9EC5-0ABAAABCA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55902-F9A2-4AAB-AFDE-E7B33CCDBD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7E248-3C75-427D-A92B-1343801FAD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EXERCIŢII DE RECEPTARE</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5840"/>
            <a:ext cx="8153280" cy="609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şi Literatura Română, clasa a X</a:t>
            </a:r>
            <a:r>
              <a:rPr b="0" i="1" lang="en-US" sz="1000" spc="-1" strike="noStrike">
                <a:solidFill>
                  <a:srgbClr val="000000"/>
                </a:solidFill>
                <a:latin typeface="Arial"/>
              </a:rPr>
              <a:t>-a</a:t>
            </a:r>
            <a:r>
              <a:rPr b="0" lang="en-US" sz="1000" spc="-1" strike="noStrike">
                <a:solidFill>
                  <a:srgbClr val="000000"/>
                </a:solidFill>
                <a:latin typeface="Arial"/>
              </a:rPr>
              <a:t>, Doina Ru</a:t>
            </a:r>
            <a:r>
              <a:rPr b="0" lang="ro-RO" sz="1000" spc="-1" strike="noStrike">
                <a:solidFill>
                  <a:srgbClr val="000000"/>
                </a:solidFill>
                <a:latin typeface="Arial"/>
              </a:rPr>
              <a:t>ş</a:t>
            </a:r>
            <a:r>
              <a:rPr b="0" lang="en-US" sz="1000" spc="-1" strike="noStrike">
                <a:solidFill>
                  <a:srgbClr val="000000"/>
                </a:solidFill>
                <a:latin typeface="Arial"/>
              </a:rPr>
              <a:t>ti)</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bordarea unui text literar există mai multe elemente care determină natura exegezei. În funcţie de bagajul intelectual al interpretului, dar şi de gusturile şi personalitatea lui, într-un text pot fi urmărite ideile estetice, simbolurile literare, planul stilistic sau semnificaţia filozofică.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a clarifica această afirmaţie oferim trei tipuri de interpretare pornind de la unul dintre cele mai discutate romane: Doamna Bovary de G. Flauber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CRITICII LITERARE: “Flaubert nu-i demonstrează nimic cititorului său, ci, prin inventarea unei poetici a clişeului, îl pune în situaţia de a-şi face demonstraţia singur.</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tă un alt mod posibil de a-i defini impersonalitatea, văzută de critica tradiţională de obicei dintr-un unghi psihologizant (ca impasibilitate, ca ironie, de asemenea), care nu este de ignorat, dar care nu poate da seama de caracterul specific al operei impersonale (această insuficienţă devine evidentă ori de câte ori se încearcă a se explica psihologizant sensul paradoxalei declaraţii: Madame Bovary c'est moi)" — Irina Mavrodin – Introducere ... Doamna Bovary de G. Flaubert, Ed. Univers, 1979, p. 26.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ESTETICĂ: “Sunt multe opere care tratează mai adânc problemele lui Shakespeare şi ale lui Dostoievski, dar n-au stârnit nici o discuţie, fiindcă aceste opere nu existau esteticeşte. Conţinutul e pus în clipa naşterii operei de artă, nu înaintea ei. […] - G. Călinescu - Pagini de estetică, Ed.Albatros, 1990, p. 73. […]</a:t>
            </a:r>
            <a:endParaRPr b="0" lang="en-US" sz="1200" spc="-1" strike="noStrike">
              <a:solidFill>
                <a:srgbClr val="000000"/>
              </a:solidFill>
              <a:latin typeface="Arial"/>
            </a:endParaRPr>
          </a:p>
        </p:txBody>
      </p:sp>
      <p:pic>
        <p:nvPicPr>
          <p:cNvPr id="46" name="Picture 6" descr=""/>
          <p:cNvPicPr/>
          <p:nvPr/>
        </p:nvPicPr>
        <p:blipFill>
          <a:blip r:embed="rId1"/>
          <a:stretch/>
        </p:blipFill>
        <p:spPr>
          <a:xfrm>
            <a:off x="5029200" y="160020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st distractiv: Ai aptitudini de critic, de estetician ori de filozof?</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şti strigat pe stradă; vocea îţi este necunoscută, însă rosteşte numele tău întreg. Ca să vezi cine te strigă trebuie să te întorci. Ce fac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prefaci că nu auz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întorci şi încerci să descoperi persoana care te strigă;</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rgi foarte încet şi aştepţi să te ajungă din urmă.</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face o chetă pentru un coleg care are nevoie de ajutor.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ebi pentru ce se strâng banii şi apoi contribu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tizezi fără să întreb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particip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buie să aştepţi două ore într-un campus şcolar; ce variantă alegi dintre următoarele trei posibilităţ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iteşti o cart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uiţi la tv.;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ai de vorbă cu cineva.</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8T13:34:16Z</dcterms:modified>
  <cp:revision>26</cp:revision>
  <dc:subject/>
  <dc:title>EXERCIŢII DE RECEPT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